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BEAB-CDC2-4F4C-B20F-22AEE07B3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2BE6-34B8-4AF4-85C5-FAE77E48B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4CB8-7FCA-411B-B1BA-14D498B44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teach.ubc.ca/Bio-industry/Inex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alevelnotes.com/Lipids/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3BF2-3FBD-47E1-B7E1-582344481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1E03-66EA-4CB3-9B04-A1799484A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micro.magnet.fsu.edu/cells/plasmamembrane/plasmamembran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1BFC-D456-4B5E-B954-9E0FCA915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s from: http://en.wikipedia.org/wiki/File:Cholesterol_structure.png and http://commons.wikimedia.org/wiki/File:Testosterone_structure.pn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06C6-D94D-4009-A37B-430A8A21E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igiwax.com/wax-basics/overview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C678-B6D8-4AB0-BAE3-44F28C235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herdaily.com/health/892/the-effects-of-food-additives-and-preservative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courses.washington.edu/conj/membrane/fattyacid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A950-4EB9-4310-A7DB-8F264DFC2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A54C-086C-4B79-B488-5EB4085EB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omepage.smc.edu/wissmann_paul/anatomy2textbook/phospholipid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studyblue.com/notes/note/n/collin-s-biochemestry-flash-cards/deck/45274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4F62-060E-4D4A-BE54-9F1D28914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studyblue.com/notes/note/n/ch-19-lipids/deck/44145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97DF-B7F1-4C53-ACCF-92E703377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41AF-8603-43DA-B980-F6591A0BD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empseysresolutionfitness.blogspot.ca/2010/09/trans-fat-truth-myth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9107-4171-43A8-8CC0-47B77944C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edicine-opera.com/2009/07/trans-fats-big-brother-and-sloppy-scienc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BA8E-5D0E-4747-B360-3EDA0BE6B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upplementquality.com/news/fatty_acid_struct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3F0-399D-49AF-B5F9-0E7779FC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B9F-E6A2-4695-A8EF-07DC39A7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89D-F5E6-49E7-8785-8EC5B2C7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EAC-1EDE-4FEE-B1BE-16F749AA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236-DFBA-44CB-86A5-26432FAF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C0C-C037-4394-A242-A0EFFBE7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804-E976-4D31-9DCA-B5A22FE8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4C2-E78A-40E9-9D7A-13BF8CD9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58E-8DCA-4772-8FE2-82C1EC63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641-A326-45B7-9FF7-F1081990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B3B-4EC0-42F9-A676-1AC0AD49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6DBB-37ED-4388-8233-043E784B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15EC-B177-476B-9D45-F83613980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3xF_LK9pnL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I4U - Bio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molecules - 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omponent of cell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glycerol + 2 fatty acid chains + 1 phosphat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end is polar and water-soluble, fatty acid end is non-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phospholipid"/>
          <p:cNvPicPr/>
          <p:nvPr/>
        </p:nvPicPr>
        <p:blipFill>
          <a:blip r:embed="rId1"/>
          <a:stretch/>
        </p:blipFill>
        <p:spPr>
          <a:xfrm>
            <a:off x="4648320" y="2216160"/>
            <a:ext cx="38098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8" descr="phospholipid.jpg"/>
          <p:cNvPicPr/>
          <p:nvPr/>
        </p:nvPicPr>
        <p:blipFill>
          <a:blip r:embed="rId1"/>
          <a:srcRect l="0" t="-2813" r="0" b="-2813"/>
          <a:stretch/>
        </p:blipFill>
        <p:spPr>
          <a:xfrm>
            <a:off x="684360" y="620640"/>
            <a:ext cx="777384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plasmamembranefigure1"/>
          <p:cNvPicPr/>
          <p:nvPr/>
        </p:nvPicPr>
        <p:blipFill>
          <a:blip r:embed="rId1"/>
          <a:stretch/>
        </p:blipFill>
        <p:spPr>
          <a:xfrm>
            <a:off x="782640" y="1981080"/>
            <a:ext cx="757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oids (Stero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based multiple-rin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ke hormones such as estrogen and testo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800px-Cholesterol_structure"/>
          <p:cNvPicPr/>
          <p:nvPr/>
        </p:nvPicPr>
        <p:blipFill>
          <a:blip r:embed="rId1"/>
          <a:stretch/>
        </p:blipFill>
        <p:spPr>
          <a:xfrm>
            <a:off x="4648320" y="2116080"/>
            <a:ext cx="3809880" cy="170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Testosterone_structure"/>
          <p:cNvPicPr/>
          <p:nvPr/>
        </p:nvPicPr>
        <p:blipFill>
          <a:blip r:embed="rId2"/>
          <a:stretch/>
        </p:blipFill>
        <p:spPr>
          <a:xfrm>
            <a:off x="5018040" y="4114800"/>
            <a:ext cx="3070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chain fatty acids linked to alcohols/carbon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as water-proof coating for plant leaves, animal feath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image004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rption of vitam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01_01_junkfood"/>
          <p:cNvPicPr/>
          <p:nvPr/>
        </p:nvPicPr>
        <p:blipFill>
          <a:blip r:embed="rId1"/>
          <a:stretch/>
        </p:blipFill>
        <p:spPr>
          <a:xfrm>
            <a:off x="4705200" y="1981080"/>
            <a:ext cx="369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ty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5" descr="fattyacid.png"/>
          <p:cNvPicPr/>
          <p:nvPr/>
        </p:nvPicPr>
        <p:blipFill>
          <a:blip r:embed="rId1"/>
          <a:srcRect l="-17255" t="0" r="-17255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glyce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type of f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erol + 3 fatty acid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ani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3xF_LK9pnL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triglyceride"/>
          <p:cNvPicPr/>
          <p:nvPr/>
        </p:nvPicPr>
        <p:blipFill>
          <a:blip r:embed="rId2"/>
          <a:stretch/>
        </p:blipFill>
        <p:spPr>
          <a:xfrm>
            <a:off x="4648320" y="2446200"/>
            <a:ext cx="38098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ype of reactio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6" descr="dehydration_synthesis_of_a_lipid1353379432885.png"/>
          <p:cNvPicPr/>
          <p:nvPr/>
        </p:nvPicPr>
        <p:blipFill>
          <a:blip r:embed="rId1"/>
          <a:srcRect l="0" t="-18210" r="0" b="-1821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r 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3" descr="05_10bfatsynthstructure-l1326653942598.jpg"/>
          <p:cNvPicPr/>
          <p:nvPr/>
        </p:nvPicPr>
        <p:blipFill>
          <a:blip r:embed="rId1"/>
          <a:srcRect l="-16502" t="0" r="-16502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 Fa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trans fat"/>
          <p:cNvPicPr/>
          <p:nvPr/>
        </p:nvPicPr>
        <p:blipFill>
          <a:blip r:embed="rId1"/>
          <a:stretch/>
        </p:blipFill>
        <p:spPr>
          <a:xfrm>
            <a:off x="2170080" y="1981080"/>
            <a:ext cx="480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 Fa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trans-fat"/>
          <p:cNvPicPr/>
          <p:nvPr/>
        </p:nvPicPr>
        <p:blipFill>
          <a:blip r:embed="rId1"/>
          <a:stretch/>
        </p:blipFill>
        <p:spPr>
          <a:xfrm>
            <a:off x="2338560" y="1981080"/>
            <a:ext cx="446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ega 3 &amp; 6 Fatty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omega3and6"/>
          <p:cNvPicPr/>
          <p:nvPr/>
        </p:nvPicPr>
        <p:blipFill>
          <a:blip r:embed="rId1"/>
          <a:stretch/>
        </p:blipFill>
        <p:spPr>
          <a:xfrm>
            <a:off x="685800" y="2021040"/>
            <a:ext cx="777240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7:25Z</dcterms:created>
  <dc:creator>rubina khan</dc:creator>
  <dc:description/>
  <dc:language>en-US</dc:language>
  <cp:lastModifiedBy>rubina khan</cp:lastModifiedBy>
  <dcterms:modified xsi:type="dcterms:W3CDTF">2017-02-14T11:04:38Z</dcterms:modified>
  <cp:revision>151</cp:revision>
  <dc:subject/>
  <dc:title>Organic Chemistry</dc:title>
</cp:coreProperties>
</file>